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9D2-E32D-4BE8-8A03-EF5EB488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AEA-87E1-4426-A295-A87E538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9EF-C314-4513-8993-C13AFF22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7DE-B1EB-4D1E-8195-54B4A473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42D-FE80-436E-889F-37561A4A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301-79B8-4B75-BDC4-22719498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BFE-C9F3-4740-8A67-C2819011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AF2-AB54-4B39-BBD1-20654551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1B2-E0E2-4F69-88C6-9052B643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190-5941-4A49-B637-06E65546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F13-EF62-4B0E-AC18-8FB54C7E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839-10BD-4E04-BAE6-0B1B625D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F1A7-6ED8-40F4-A4CA-3FD4AFF63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609480" y="2041560"/>
            <a:ext cx="80042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Things First: “I”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nchanese\AppData\Local\Microsoft\Windows\Temporary Internet Files\Content.IE5\9MUQ803S\MC900363172[1].wmf"/>
          <p:cNvPicPr/>
          <p:nvPr/>
        </p:nvPicPr>
        <p:blipFill>
          <a:blip r:embed="rId1"/>
          <a:stretch/>
        </p:blipFill>
        <p:spPr>
          <a:xfrm>
            <a:off x="677880" y="1317600"/>
            <a:ext cx="3294000" cy="1730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609480" y="3940200"/>
            <a:ext cx="312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should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need t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have to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4" descr=""/>
          <p:cNvPicPr/>
          <p:nvPr/>
        </p:nvPicPr>
        <p:blipFill>
          <a:blip r:embed="rId2"/>
          <a:stretch/>
        </p:blipFill>
        <p:spPr>
          <a:xfrm>
            <a:off x="3852720" y="2798640"/>
            <a:ext cx="1432080" cy="1455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nchanese\AppData\Local\Microsoft\Windows\Temporary Internet Files\Content.IE5\N3169SS1\MC900339964[1].wmf"/>
          <p:cNvPicPr/>
          <p:nvPr/>
        </p:nvPicPr>
        <p:blipFill>
          <a:blip r:embed="rId3"/>
          <a:stretch/>
        </p:blipFill>
        <p:spPr>
          <a:xfrm>
            <a:off x="6172200" y="1262160"/>
            <a:ext cx="2057400" cy="2166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5905440" y="3940200"/>
            <a:ext cx="259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would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could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migh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ly Conferences: Bless Confer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nchanese\AppData\Local\Microsoft\Windows\Temporary Internet Files\Content.IE5\V8YN1CYM\MP900430616[1].jpg"/>
          <p:cNvPicPr/>
          <p:nvPr/>
        </p:nvPicPr>
        <p:blipFill>
          <a:blip r:embed="rId1"/>
          <a:stretch/>
        </p:blipFill>
        <p:spPr>
          <a:xfrm>
            <a:off x="5608800" y="1600200"/>
            <a:ext cx="353520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" y="1676520"/>
            <a:ext cx="5334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ess Conferen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sitive Comment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you l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tood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all str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what’s wo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for what’s not menti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 Conferences: Add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nchanese\AppData\Local\Microsoft\Windows\Temporary Internet Files\Content.IE5\N3169SS1\MC900356087[1].wmf"/>
          <p:cNvPicPr/>
          <p:nvPr/>
        </p:nvPicPr>
        <p:blipFill>
          <a:blip r:embed="rId1"/>
          <a:stretch/>
        </p:blipFill>
        <p:spPr>
          <a:xfrm>
            <a:off x="2133720" y="4435560"/>
            <a:ext cx="2971800" cy="2422440"/>
          </a:xfrm>
          <a:prstGeom prst="rect">
            <a:avLst/>
          </a:prstGeom>
          <a:ln w="0">
            <a:noFill/>
          </a:ln>
        </p:spPr>
      </p:pic>
      <p:sp>
        <p:nvSpPr>
          <p:cNvPr id="53" name="PubRRectCallout"/>
          <p:cNvSpPr/>
          <p:nvPr/>
        </p:nvSpPr>
        <p:spPr>
          <a:xfrm flipH="1">
            <a:off x="608760" y="1523880"/>
            <a:ext cx="7620120" cy="2895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ddress Conference:  Writer-Directed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 only on areas designated by aut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any feedback for those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Conferences: Sh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nchanese\AppData\Local\Microsoft\Windows\Temporary Internet Files\Content.IE5\9MUQ803S\MC900338028[1].wmf"/>
          <p:cNvPicPr/>
          <p:nvPr/>
        </p:nvPicPr>
        <p:blipFill>
          <a:blip r:embed="rId1"/>
          <a:stretch/>
        </p:blipFill>
        <p:spPr>
          <a:xfrm>
            <a:off x="152280" y="1828800"/>
            <a:ext cx="3200400" cy="2894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352680" y="4149720"/>
            <a:ext cx="5791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hred Conference: Anything G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uthor is at mercy of reader. Reader gives all appropriate feedba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on’t worry – this is your almost-final draft. You will be o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4:07:58Z</dcterms:created>
  <dc:creator>Chanese, Nicholas</dc:creator>
  <dc:description/>
  <dc:language>en-US</dc:language>
  <cp:lastModifiedBy>Chanese, Nicholas</cp:lastModifiedBy>
  <dcterms:modified xsi:type="dcterms:W3CDTF">2011-06-02T13:55:34Z</dcterms:modified>
  <cp:revision>4</cp:revision>
  <dc:subject/>
  <dc:title>PowerPoint Presentation</dc:title>
</cp:coreProperties>
</file>